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69137-DEC2-4399-9CEC-412EAD272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ABA4E-AB41-4894-B955-A27B91F54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9046F-C1B2-48A3-91D5-3DC0F5267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80FEB-0265-4C0C-84D7-664EB7B91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FF24-989B-43BA-8334-61117B950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028A-9E17-4F5F-AACC-064DCE13C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EC48F-122B-4D57-AB4C-F0500F1D5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C1096-7161-4E03-BDA4-A026C36FB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71A22-3FB8-485A-BF35-A3E971F07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4F16-8945-4CDA-8DA2-FCC11B702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4011-05A4-482F-8D7B-6478FB037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96D1A-B160-48EC-A92F-0810577E2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76E6A-A85B-4797-A1BA-625F79E2B4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Me llamo _______ Clase 6nh</a:t>
            </a:r>
            <a:br>
              <a:rPr sz="4000"/>
            </a:b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La fecha es el 28 de febrero del 201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Propósito # 46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: ¿Estan listos para el examen de la unidad 1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Actividad Inici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ia y complet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jercicio 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. 28 (12-1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ract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ia y complet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jercicio 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. 29 (16-2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ia y complet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jercicio 5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. 29 (21-2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ia y complet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jercicio 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. 29 (24-2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BOO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a p. 18 (Minimum of 10 Spanish Sentenc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4"/>
          <p:cNvSpPr/>
          <p:nvPr/>
        </p:nvSpPr>
        <p:spPr>
          <a:xfrm>
            <a:off x="457200" y="3352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area # 4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15T16:21:52Z</dcterms:created>
  <dc:creator>Helen Zumaeta</dc:creator>
  <dc:description/>
  <dc:language>en-US</dc:language>
  <cp:lastModifiedBy>Helen Zumaeta</cp:lastModifiedBy>
  <dcterms:modified xsi:type="dcterms:W3CDTF">2013-02-27T14:25:56Z</dcterms:modified>
  <cp:revision>8</cp:revision>
  <dc:subject/>
  <dc:title>Me llamo _______ Clase 6nh/il La fecha es el 15 de junio del 2011</dc:title>
</cp:coreProperties>
</file>